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njujain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9-05-21T16:47:39.081000000" idx="1">
    <p:pos x="5580" y="1556"/>
    <p:text>Cut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7175-BFEB-41D3-8C32-6745814D3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9638-C257-48AB-BC81-B0181871A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045C-D747-4A54-91CE-319F251DE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50DF-D948-4B22-85FD-B06950630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6AFF-FA46-4DC9-91E4-476AE6AC2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C256-7871-47AA-80E8-FE00A4A90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A1A3-D1F7-40CA-9C05-1ABF03BB25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2AA6-8864-46EB-9BD1-4B7220469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660F-8A6C-4567-BDD9-955C6855D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5BB8-F232-4052-911F-A9B9773990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2563-3F75-4A1E-9BCC-C6A64972F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E446-290A-4AA9-9AF8-CFF2042A9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FEBB-F60F-4E8F-A6C4-8A7D02EB17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677F-52A5-4025-BCE0-46A4085E8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320A-AB25-4972-B192-30F91877D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AA66-B04B-455E-96F3-AF964D245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ED11-407F-4DA3-843C-7CC8229169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13E-0CC1-45A6-ABA4-CD3B4EC9DA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49A-B57C-47B6-8BB3-963050D55E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C9C-A912-4487-BB21-AE8F08BF3D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637-47FC-44C4-AF4F-8DD04C7788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537-66B8-4D0F-955C-7ECF63297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1E5A-F1B2-4F2C-9BBC-ED238E75F9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D79-3453-447D-BAAF-7F0100B875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858-76D4-4BE5-BAB7-BDA3B5CEB4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4E8-E9D2-49F4-8584-C624D8E78A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79D-9589-4D86-923C-0992EF8721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165-E7AE-4AA5-B22D-B1C9408CC1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C6D-69C4-4DEB-9C92-593456D102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F5C-6929-42C3-B109-D7C1CA38DA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13FAE-710A-4170-8FCD-DB7B47CC03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AED3-1DC6-4578-AC2C-FCFD31753B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327E-A401-4421-B75D-24E865B3A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1300-E7ED-4362-972D-CC11FA7CE0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2BA5-1F43-448D-81EF-006604C1B7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E623-4F4F-4B4E-B30F-FEC47D404D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35188-C593-4350-91D5-3909C21C30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FABB-B7AF-4576-B277-9CD502D01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B519B-495F-41E7-97B6-BE934BCA30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E825A-9C75-40BF-95B6-7ADE922859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CF01-4386-463E-8146-C364E63ACA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9ECF8-2611-48A7-A29B-7707D477AD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29D6B-C3AA-4960-ACF4-8937D74A3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96E2-80A8-4A1B-9388-DFF0BB867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1D67-8536-4B55-80EA-14B66153B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7F1E-B490-4C15-8CFC-AB0EC1E45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3FC-1B0C-4BB4-852F-213D9F1A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FF8D-1198-4A5C-9BB6-1DA2A6FE0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5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B512-C73F-4DA3-B062-7BFC43A70B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8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51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F28-842C-4EA5-ACEC-A77596069E3A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hape 2"/>
          <p:cNvSpPr/>
          <p:nvPr/>
        </p:nvSpPr>
        <p:spPr>
          <a:xfrm>
            <a:off x="-9360" y="-7920"/>
            <a:ext cx="9162720" cy="104292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Shape 3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94" name="Shape 3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81560" y="-792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-48600" y="-234720"/>
            <a:ext cx="9232200" cy="1496520"/>
            <a:chOff x="-48600" y="-234720"/>
            <a:chExt cx="9232200" cy="1496520"/>
          </a:xfrm>
        </p:grpSpPr>
        <p:sp>
          <p:nvSpPr>
            <p:cNvPr id="97" name="Shape 4"/>
            <p:cNvSpPr/>
            <p:nvPr/>
          </p:nvSpPr>
          <p:spPr>
            <a:xfrm rot="21435600">
              <a:off x="-28440" y="-15840"/>
              <a:ext cx="9178920" cy="1058760"/>
            </a:xfrm>
            <a:prstGeom prst="pie">
              <a:avLst/>
            </a:prstGeom>
            <a:noFill/>
            <a:ln w="10800">
              <a:solidFill>
                <a:srgbClr val="05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hape 5"/>
            <p:cNvSpPr/>
            <p:nvPr/>
          </p:nvSpPr>
          <p:spPr>
            <a:xfrm rot="21435600">
              <a:off x="-23400" y="108720"/>
              <a:ext cx="9191520" cy="86652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9FBB-5E2C-4B2A-9AF9-917DA35CABF8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hape 79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80"/>
          <p:cNvSpPr/>
          <p:nvPr/>
        </p:nvSpPr>
        <p:spPr>
          <a:xfrm flipV="1" rot="420000">
            <a:off x="8003880" y="5358960"/>
            <a:ext cx="155520" cy="1555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84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3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Shape 85"/>
          <p:cNvGrpSpPr/>
          <p:nvPr/>
        </p:nvGrpSpPr>
        <p:grpSpPr>
          <a:xfrm>
            <a:off x="4376880" y="6242040"/>
            <a:ext cx="4773600" cy="622440"/>
            <a:chOff x="4376880" y="6242040"/>
            <a:chExt cx="4773600" cy="622440"/>
          </a:xfrm>
        </p:grpSpPr>
        <p:pic>
          <p:nvPicPr>
            <p:cNvPr id="142" name="Shape 85" descr=""/>
            <p:cNvPicPr/>
            <p:nvPr/>
          </p:nvPicPr>
          <p:blipFill>
            <a:blip r:embed="rId3"/>
            <a:stretch/>
          </p:blipFill>
          <p:spPr>
            <a:xfrm>
              <a:off x="4376880" y="6242040"/>
              <a:ext cx="47736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0800000">
              <a:off x="4381200" y="624960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66400"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73080" indent="-304920"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5100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25680" indent="-27324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25680" indent="-27324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521200" y="6513480"/>
            <a:ext cx="1652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207-A658-47DE-B016-98BA5979A7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14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</a:rPr>
              <a:t>கணிதம்கற்பித்தல்முறை 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(Pedagogy of Mathematics)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47728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ta-IN" sz="2400" spc="-1" strike="noStrike">
                <a:solidFill>
                  <a:srgbClr val="04617b"/>
                </a:solidFill>
                <a:latin typeface="Calibri"/>
              </a:rPr>
              <a:t>கணிதத்தின் தன்மைகளைப் புரிந்துகொள்ளுதல்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3920" y="958680"/>
            <a:ext cx="86202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மானது தனக்கே உரித்தான மொழியைக் கொண்ட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ா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உறுப்ப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ுறியீட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சூத்திரங்கள் மற்றும் கொள்கை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் உலகம் முழுமைக்கும் ஒத்தவ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ம் என்பது ஒரு துல்லியமான அறிவியலாக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இது மிக துல்லிய தன்மைய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தர்க்கரீதியான அணுகல் தன்மை மற்றும் விதியின் படி முறைப்படுத்த தன்மை ஆகியவற்றை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இது விதிவரு மற்றும் விதி விளக்க முறையைக் கொண்டிருப்பதோடு பொதுமைப்படுத்தவும் உதவ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ஃது அறிவிய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றியிய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ருத்துவம் மற்றும் சமூக அறிவியல் உள்ளிட்ட பல துறைகளில் முக்கிய கருவியாக உலகம் முழுவதும் பயன்படுத்தப்பட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33175" t="23076" r="14263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ல்வேறு கருத்துகளைக் கற்பித்தல் மூலம் அவர்களின் திறமைகள் மற்றும் திறன்கள் வளர்க்க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வரிசைப்படுத்தப்பட்ட  செயல்பாடுகளை இந்த நிலையில் உள்ள கற்பித்தல் முறை உள்ளடக்கியுள்ளத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onstantia"/>
              </a:rPr>
              <a:t>அனுபவங்கள்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(Experiences)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புதிய கருத்தை கற்றுத் தருவதற்குக் காட்சிப் பொருள்கள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விளையாட்டுப் பொருள்கள்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கற்றல் உபகரணங்கள் ஆகியவற்றைக் கையாளுதல் போன்ற நிறைய அனுபவங்கள் அளித்திட வேண்டும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இந்நிலையில்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onstantia"/>
              </a:rPr>
              <a:t>பெறும் அனுபவங்கள் வகுப்பறைகளின் உள் மற்றும் வெளி செயல்பாடுகளுடன் வலுவான ஓர் இணைப்பைக் கொண்டனவாக இருக்கவேண்டும்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ta-IN" sz="2200" spc="-1" strike="noStrike">
                <a:solidFill>
                  <a:srgbClr val="000000"/>
                </a:solidFill>
                <a:latin typeface="Constantia"/>
              </a:rPr>
              <a:t>மொழ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Language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ாணவர்கள் அனைவருக்கும் தங்கள் அனுபவங்கள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உற்று நோக்கியவை மற்றும் கருதுகோள்கள் ஆகியவற்றை வாய்மொழியாக விளக்குவதற்கு உரிய வாய்ப்புகளை அளித்திடவேண்ட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இவ்வாறு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ாணவர்கள் கலந்துரையாடல் செய்யும்போது மொழித் திறன்களான கேள்வி அமைத்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புதிய சொற்கள் மற்றும் பாடம் தொடர்பான அறிமுக சொற்களைப் பெற்று இருத்தல் ஆகியவையும் வளர்கின்ற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onstantia"/>
              </a:rPr>
              <a:t>படவிளக்கம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Pictorial present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க்குகளை வெளிப்படுத்தும் படத்தினைப் புரிந்து கொள்வதற்கும் அது தொடர்பான தகவல்களைப் பெறுவதற்கும் மாணவர்களைத் தயார் செய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த்தகைய படங்கள் சிலநேரங்களில் கணக்குகள் மற்றும் அதன் தீர்வுகளையும் வெளிப்படுத்தலா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04617b"/>
                </a:solidFill>
                <a:latin typeface="Calibri"/>
              </a:rPr>
              <a:t>தொடக்க நிலையில் கணிதம்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56680" cy="562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குறியீடுகள்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Symbol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ுறியீடுகளைப் பயன்படுத்திக் கணக்குகள் செய்ய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திரியாக செயல்படுத்தவும் மற்றும் பொருளாக்கம் செய்யவும் மாணவர்களுக்கு வாய்ப்புகள் வழங்க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onstantia"/>
              </a:rPr>
              <a:t>எடுத்துக்காட்டாக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5+3=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ற்போர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தாம் உற்றுநோக்கியவற்றைப் பொருள்பொதிந்த குறியீடுகளாக மாற்றிப் பயன்படுத்த ஊக்குவிக்க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து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ணவர்களுக்குக் கணிதக் கருத்துகளைத் தெளிவாகவும்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துல்லியமாகவும் வழங்க வழிவகை செய்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ற்ற திறன்களான படித்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வாசித்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எழுது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ருத்துகளை வெளிப்படுத்துதல் ஆகியவற்றுடன் இயைந்து தீர்வு காணும் திறன்களுடன் கூடிய ஒருங்கிணைந்த முறையில் வளர்ச்சி பெற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630360"/>
            <a:ext cx="8400960" cy="6062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onstantia"/>
              </a:rPr>
              <a:t>தொடக்க நிலையில் கணிதம்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Mathematics at  Primary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ொடக்கநிலை வகுப்புகளி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தாவது வகுப்பு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மற்ற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ல் மாணவர்கள் ஒரு மொழி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ாய்மொழி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ல்லது இருமொழியுடன் கணிதத்தையும் கற்கின்றனர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ங்களின் சூழலை புரிந்துகொள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ளுதல்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சிறப்பாக தகவலைப் பரிமாறவ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ொடர்பினை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வெளிப்படுத்தவும்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கணிதம் ஒரு கருவி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4572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கணித சொற்றொடர்களை பயன்படுத்தவும் சிக்கலை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தீர்க்கும் தெரிந்திருத்தல்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உயர்தொடக்க நிலையில் எண்ணியலைப் பொதுமைப்படுத்தி இயற்கணிதத்தைக் கற்க ஆரம்பிக்கின்றனர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ாணவர்கள் எண்களுக்குப் பதிலாக குறியீட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எழுத்துகள் போன்றவற்றைப் பயன்படுத்திச் சுருக்கி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துமைப்படுத்துதல் மற்றும் எண்களின் அமைப்புகளை உற்றுநோக்கி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ொதுமைப்படுத்தி விதிகளையும் தேற்றங்களையும் நிறுவ முடி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09400" algn="just">
              <a:lnSpc>
                <a:spcPct val="140000"/>
              </a:lnSpc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ருபரிமாண மற்றும் முப்பரிமாண வடிவங்களில் விளிம்பு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ுனைகள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ோணங்கள் மற்றும் மேற்பரப்புகள் போன்றவற்றைப் பண்புகளின் அடிப்படையில் வெளிப்படுத்துதல் மற்றும் பொதுமைப்படுத்துதலை அடிப்படையாகக் கொண்டு வடிவியலைக் கற்கின்றனர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hape 139"/>
          <p:cNvSpPr/>
          <p:nvPr/>
        </p:nvSpPr>
        <p:spPr>
          <a:xfrm>
            <a:off x="371520" y="793800"/>
            <a:ext cx="8488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"/>
              </a:rPr>
              <a:t>உயர்தொடக்க நிலையில் கணிதம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hape 139"/>
          <p:cNvSpPr/>
          <p:nvPr/>
        </p:nvSpPr>
        <p:spPr>
          <a:xfrm>
            <a:off x="222120" y="668160"/>
            <a:ext cx="865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"/>
              </a:rPr>
              <a:t>உயர்தொடக்க நிலையில் கணிதம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140"/>
          <p:cNvSpPr/>
          <p:nvPr/>
        </p:nvSpPr>
        <p:spPr>
          <a:xfrm>
            <a:off x="779400" y="1379520"/>
            <a:ext cx="7989840" cy="502956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32544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பங்கேற்ற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ஈடுபாட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ஈடுபடு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உற்றுநோக்க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ருதுகோள்கள் அமைத்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உருவாக்கம் மற்றும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அவற்றைச் சரிபார்த்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சிக்கலை உருவாக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தூண்ட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விடுப்பத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சிக்கலைத்தீர்த்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ட்சிப்படுத்துதல் மற்றும் வழங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இணைப்புகளை உருவாக்குதல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மேற்கொள்ளு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ரணகாரிய அடிப்படையிலான வழிமுறைகள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முறையா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ாரணமறிதல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09760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Arial"/>
              </a:rPr>
              <a:t>கணிதக் கருத்துப் பரிமாற்றம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தொடக்க நிலையில் கணித மதிப்பீடு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18680"/>
            <a:ext cx="315612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தொடக்க வகுப்பி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ற்றலை மதிப்பீடு செய்வதில் முக்கியமாக கவனிக்க வேண்டியவ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ை எவ்வாறு கற்கிறார்கள் எனப் புரிந்துக் கொள்ளுதல்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ை புரிந்துக் கொள்ளுதல்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கணித கருத்துகளைக் குழந்தைகள் புரிந்து கொண்டதை அறிதல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7" descr=""/>
          <p:cNvPicPr/>
          <p:nvPr/>
        </p:nvPicPr>
        <p:blipFill>
          <a:blip r:embed="rId1"/>
          <a:srcRect l="15669" t="36299" r="43761" b="17347"/>
          <a:stretch/>
        </p:blipFill>
        <p:spPr>
          <a:xfrm>
            <a:off x="3597120" y="1258920"/>
            <a:ext cx="53676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கற்றல்நோக்கங்கள்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(Learning objectives)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2640" y="1274400"/>
            <a:ext cx="8451720" cy="532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கற்றல் விளைவுகளில் கொடுக்கப்பட்டுள்ள தனிப்பட்ட திறமைகளையும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திறன்களையும் மாநிலப் பாடத்திட்டத்துடன் தொடர்புபடுத்து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வகுப்பறைச் சூழலில்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கற்றல் விளைவுகளை அடைய குழந்தைகளுக்கு உதவும் பொருத்தமான கற்றல் செயல்பாடுகளைக் கற்பித்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onstantia"/>
              </a:rPr>
              <a:t>அனைத்துக் குழந்தைகளின் கற்றல் செயல்பாடுகளைத் தொடர்ந்து கண்காணித்துக்  கற்றல் செயல்முறைகளின் மதிப்பீட்டின் மூலம் உறுதிப்படுத்துதல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25200"/>
            <a:ext cx="8385120" cy="5273640"/>
          </a:xfrm>
          <a:prstGeom prst="rect">
            <a:avLst/>
          </a:prstGeom>
          <a:gradFill rotWithShape="0">
            <a:gsLst>
              <a:gs pos="0">
                <a:srgbClr val="87eaf1"/>
              </a:gs>
              <a:gs pos="100000">
                <a:srgbClr val="f7feff"/>
              </a:gs>
            </a:gsLst>
            <a:lin ang="189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நன்றி</a:t>
            </a:r>
            <a:br>
              <a:rPr sz="72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ோராயம் காண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ுல்லியமாக கருத்துகளைப் பரிமாறி கொள்ளு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தர்க்கரீதியாக செயல்பட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சிக்கலைத் தீர்த்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12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onstantia"/>
              </a:rPr>
              <a:t>காட்சிப்படுத்துதல்மற்றும்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வழங்குதல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ுழந்தைகளிடம் உள்ளார்ந்த ஆற்றலை மேம்படுத்தவும் சமூகத்தில் தனித்து சிந்திக்கபவராக உதவுவது கணித பாடமாகும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Shape 116"/>
          <p:cNvSpPr/>
          <p:nvPr/>
        </p:nvSpPr>
        <p:spPr>
          <a:xfrm>
            <a:off x="609480" y="419040"/>
            <a:ext cx="637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ணித பாடமானத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கணித திறன்கள்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சிக்கலைத் தீர்த்தல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சூழலுக்கேற்றவாறு சிந்தித்தல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onstantia"/>
              </a:rPr>
              <a:t>காட்சிப்படுத்துதல்மற்றும்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வழங்குதல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5120" indent="-465120">
              <a:lnSpc>
                <a:spcPct val="2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கருத்து பரிமாற்றம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3725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ம் கற்பித்தலில் தொலைநோக்கு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ுழந்தைகள் பயமின்றி மகிழ்ச்சியுடன் கணிதம் கற்க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குழந்தைகள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Constantia"/>
              </a:rPr>
              <a:t>இன்றியமையாத கணிதத்தைக் கற்றல்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சூத்திரங்கள் மற்றும் இயந்திரமயமான செயல்முறைகளைத் தவிர்த்தும் கற்றுக்கொள்ள நிறைய உள்ள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04640" indent="-404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ைப் பற்றி மற்றவர்களுடன் பேச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கருத்துப் பரிமாற்றம் செய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ணிதத்தில் மற்றவர்களுடன் விவாதம் செய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ஒருவர் மற்றவர்களோடு கணிதத்தில் இயைந்து செயல்படுதல் போன்ற திறன்கள் பெற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725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ம் கற்பித்தலில் தொலைநோக்கு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6800"/>
            <a:ext cx="8229600" cy="552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பொருள் பொதிந்துள்ள கணக்குகளை எதிர்கொள்ளுதல் மற்றும் தீர்வு காண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ுழந்தைகள் கணிதத் தொடர்புகளைக் கருத்தியல் நிலையில் உள்வாங்கு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மைப்புகளைக் கண்டுணர்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ாரண காரியமறிதல் மற்றும் கணிதக் கூற்றில் உள்ள உண்மைத் தன்மை குறித்து விவாதம் செய்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ுழந்தைகள் கணிதத்தின் அடிப்படை அமைப்புகளைப் புரிந்துகொள்ளுத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எண்ண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இயற்கணிதம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வடிவியல்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முக்கோணவ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பள்ளி கணிதத்தில் உள்ள அடிப்படை பாடப்பொருள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கருத்தியல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மைப்புகள் மற்றும் பொதுமைப்படுத்துதல் இவற்றை ஒருங்கே அமையப் பெற்ற கற்பித்தல் முறை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onstantia"/>
              </a:rPr>
              <a:t>அனைத்துக் குழந்தைகளும் கணிதம் கற்க முடியும் என்பதை உறுதி செய்யும் வகையில் ஆசிரியர் வகுப்பில் உள்ள அனைவரையும் கற்றலில் ஈடுபடுத்த 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7800" y="3139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4617b"/>
                </a:solidFill>
                <a:latin typeface="Calibri"/>
              </a:rPr>
              <a:t>பள்ளியில் கணிதப் பாடத்தில் உள்ள சில சிக்கல்கள்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5360" y="1379160"/>
            <a:ext cx="8693280" cy="533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09760" indent="-5097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ண்டு இயல் எண்ணைப் பெருக்கும்போது கிடைக்கும் எண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க்கப்பட்ட எண்களை விடப் பெரியதாக உள்ள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ஆனா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ு பின்ன எண்களைப் பெருக்கும்போது கிடைக்கும் எண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க்கப்பட்ட எண்களைவிடச் சிறியதாக உள்ளதோ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ஏன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?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னக் குழந்தை புரிதலில் சிக்கல் ஏற்படுகிற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760" indent="-5097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ெரும்பாலான குழந்தைகளுக்குக் கணிதம் குறித்த பய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ல்வி பற்றிய உணர்வு மிகுதியாக உள்ள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னவே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க்குழந்தைகள் கணிதம் கற்பதிலிருந்து தொடக்க நிலையிலேயே சற்று விலகிச் செல்கின்றனர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7440" y="34452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a-IN" sz="2800" spc="-1" strike="noStrike">
                <a:solidFill>
                  <a:srgbClr val="04617b"/>
                </a:solidFill>
                <a:latin typeface="Calibri"/>
              </a:rPr>
              <a:t>பள்ளியில் கணிதப் பாடத்தில் உள்ள சில சிக்கல்கள்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NCF 200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190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க்கலைத் திட்டத்தில் கணிதப் பாடமானது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ங்கேற்காத மாணவர்களுக்கு மட்டுமல்லாது திறமையானவர்களுக்கும் எந்தச் சவால்களையும் வழங்காதது ஏமாற்றம் அளிக்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க்குகள்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ிதப் பயிற்சிகள் மற்றும் மதிப்பீட்டு முறைகள் பெரும்பாலும் இயந்திரத்தனம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மீண்டும் மீண்டும் கணக்கிடுதலையே அதிகம் வலியுறுத்த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கணிதத்தின் பகுதிகள் குறிப்பாக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இடம்சார்ந்த சிந்தனைகள் வளர்க்க கணித பாடத்திட்டத்தில் போதுமான அளவு சேர்க்கப்படவில்லை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ஆசிரியர்களுக்குக் கணிதம் கற்பித்தலில் தன்னம்பிக்கை குறைவ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பாடத் தயாரிப்பிற்கான போதுமான அவகாசமின்மையும்</a:t>
            </a:r>
            <a:r>
              <a:rPr b="0" lang="en-IN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onstantia"/>
              </a:rPr>
              <a:t>உதவியும் கிடைக்காத நிலை உள்ளது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4617b"/>
                </a:solidFill>
                <a:latin typeface="Calibri"/>
              </a:rPr>
              <a:t>முன்பருவக் கல்வி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ta-IN" sz="2800" spc="-1" strike="noStrike">
                <a:solidFill>
                  <a:srgbClr val="04617b"/>
                </a:solidFill>
                <a:latin typeface="Calibri"/>
              </a:rPr>
              <a:t>திறன்கள்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48800"/>
            <a:ext cx="8229600" cy="557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ண்சார்ந்த அறிதிறன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முன்னோக்கி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ின்னோக்கி துல்லியமாக எண்ணுதல் திறன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டிப்படை செயல்பாடுகள் வாயிலாக எண்களுக்கு இடையிலான தொடர்புகளைக் காண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மாதிரி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சொற்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டங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டம்சார் அறிதிறன்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வடிவங்கள் பற்றிய கருத்த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ளவ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இருப்பிட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அளவைகள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நீள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உயரம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எடை மற்றும் காலம் சார்ந்த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ங்கள் சொந்த நடையில் வெளிப்படுத்தியபின் அலகுகள் பயன்படுத்த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-4791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ராயமாகக் கணக்கிடு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பொருள்களின் அளவு மற்றும் எண்ணிக்கையை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த் 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தோராயமாகக் கணித்தல்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ta-IN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91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1</dc:creator>
  <dc:description/>
  <dc:language>en-US</dc:language>
  <cp:lastModifiedBy>hp1</cp:lastModifiedBy>
  <dcterms:modified xsi:type="dcterms:W3CDTF">2019-10-01T05:22:48Z</dcterms:modified>
  <cp:revision>57</cp:revision>
  <dc:subject/>
  <dc:title>Pedagogy of Mathematics</dc:title>
</cp:coreProperties>
</file>